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5489-843D-4FDB-B5B7-C0C02545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2AF9-B67C-404F-A2CE-C862396E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0CFA-4C72-4FA3-BF7E-B2D44B44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B783-3E86-4549-AB9B-30247B26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8CD8-2703-4F9D-8AEE-B7F585C6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8C2E-279D-498D-A02B-8491FE53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56C1-F9E5-4987-9545-E4074F9F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C639-A45F-4F60-B0F5-C235188D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AA65-48B3-49EE-8544-F9F3EB7A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D469-6017-46BE-AAC7-EDAEBDE4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E993-C596-4668-A7BC-BDC02A92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509D-6B72-41C6-8C09-3BC95EE1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4046-CCE3-4CA8-A33B-0988B149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347C-F4DE-4BF9-9D3F-11AD3D92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5EDA-C58C-47F7-AAF4-90E06F9B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FE06-EDA6-4AB9-8912-21A078B2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0E63-0B98-4342-A5A6-0AE07B6C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1C6B-C2B9-4B5D-AE23-62112D46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3AE7-8966-4C02-BF63-BA862D40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BBF9-ACF4-402F-A460-4152019A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EB93-633C-410C-83C7-A99F2B17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84DC-0728-41CD-865F-AC1536F8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15CC-01A6-4406-9DFD-239BDCC9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888C-6614-42CE-9105-6B561EBF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371D-EBE6-45C3-96B1-84C3D3B82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929F-8301-4878-AA39-6C91E8CC5B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Garamond"/>
              </a:rPr>
              <a:t>Friction</a:t>
            </a:r>
            <a:endParaRPr b="1" lang="en-US" sz="8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257800" y="5334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friction mower.jpg"/>
          <p:cNvPicPr/>
          <p:nvPr/>
        </p:nvPicPr>
        <p:blipFill>
          <a:blip r:embed="rId1"/>
          <a:stretch/>
        </p:blipFill>
        <p:spPr>
          <a:xfrm>
            <a:off x="2286000" y="2336760"/>
            <a:ext cx="4724280" cy="4097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erlin Sans FB Demi"/>
              </a:rPr>
              <a:t>Static vs. Kinetic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39" name="Content Placeholder 3" descr="static vs kin diagram.jpg"/>
          <p:cNvPicPr/>
          <p:nvPr/>
        </p:nvPicPr>
        <p:blipFill>
          <a:blip r:embed="rId1"/>
          <a:stretch/>
        </p:blipFill>
        <p:spPr>
          <a:xfrm>
            <a:off x="233280" y="1523880"/>
            <a:ext cx="8910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Example 1 </a:t>
            </a:r>
            <a:r>
              <a:rPr b="0" lang="en-US" sz="5400" spc="-1" strike="noStrike">
                <a:solidFill>
                  <a:srgbClr val="666699"/>
                </a:solidFill>
                <a:latin typeface="Garamond"/>
              </a:rPr>
              <a:t>- 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A 10-kg box rests on a horizontal floor.  The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= 0.30 and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= 0.40   Determine how much force is needed to move the box and comment on whether or not there is motion when the applied force, F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, is exerted on it at these magnitudes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438280" cy="1943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28600" y="4114800"/>
            <a:ext cx="5105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0 N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0 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8 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0 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705720" y="320040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EXAMPLE 2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10 kg box is on a horizontal surface, but an applied force of 40 N acts at an angle 3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horizontal.  A) What will be the acceleration of the box if friction is ignored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) What is the normal for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olving Process: First make a FB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Free Body Diagram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R PART 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olve for vector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which stands for F in the x direction; then plug into F = 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= cos 30 = adj / 40;  35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5N = 10 kg(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= 3.5 m/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152880" cy="22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Free Body Diagram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R PART B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olve for vector 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which simply stands for the F in the y direction; then plug into 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= mg - 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in 30 = opp / 40; 20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= 98N – 20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= 78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152880" cy="22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Garamond"/>
              </a:rPr>
              <a:t>Newton’s Second Law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W = m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1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ives us F = m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Garamond"/>
              </a:rPr>
              <a:t>Friction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force which resists sliding or rolling motion by opposing the movement of one body over or through an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3200400"/>
          <a:ext cx="8077320" cy="342432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n be useful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n be harmful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Needed for walking, biking, driv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Slows down machin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Without it, couldn’t stop a car; would look funny walk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 Makes us apply more eff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19" descr="footprints.gif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0" name="Content Placeholder 3" descr="moving furniture.jpg"/>
          <p:cNvPicPr/>
          <p:nvPr/>
        </p:nvPicPr>
        <p:blipFill>
          <a:blip r:embed="rId1"/>
          <a:stretch/>
        </p:blipFill>
        <p:spPr>
          <a:xfrm>
            <a:off x="669960" y="109440"/>
            <a:ext cx="2609640" cy="517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pistons in engine.jpg"/>
          <p:cNvPicPr/>
          <p:nvPr/>
        </p:nvPicPr>
        <p:blipFill>
          <a:blip r:embed="rId2"/>
          <a:stretch/>
        </p:blipFill>
        <p:spPr>
          <a:xfrm>
            <a:off x="6089760" y="2359080"/>
            <a:ext cx="2908080" cy="2498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rock climbing.jpg"/>
          <p:cNvPicPr/>
          <p:nvPr/>
        </p:nvPicPr>
        <p:blipFill>
          <a:blip r:embed="rId3"/>
          <a:stretch/>
        </p:blipFill>
        <p:spPr>
          <a:xfrm>
            <a:off x="5559480" y="4900680"/>
            <a:ext cx="3779640" cy="2274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braking car.jpg"/>
          <p:cNvPicPr/>
          <p:nvPr/>
        </p:nvPicPr>
        <p:blipFill>
          <a:blip r:embed="rId4"/>
          <a:stretch/>
        </p:blipFill>
        <p:spPr>
          <a:xfrm>
            <a:off x="-6480" y="3121200"/>
            <a:ext cx="3402000" cy="176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snow skiing.jpg"/>
          <p:cNvPicPr/>
          <p:nvPr/>
        </p:nvPicPr>
        <p:blipFill>
          <a:blip r:embed="rId5"/>
          <a:stretch/>
        </p:blipFill>
        <p:spPr>
          <a:xfrm>
            <a:off x="3486240" y="4816440"/>
            <a:ext cx="2281320" cy="3821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water slide.jpg"/>
          <p:cNvPicPr/>
          <p:nvPr/>
        </p:nvPicPr>
        <p:blipFill>
          <a:blip r:embed="rId6"/>
          <a:stretch/>
        </p:blipFill>
        <p:spPr>
          <a:xfrm>
            <a:off x="6480" y="4950000"/>
            <a:ext cx="3133440" cy="2041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bball player.jpg"/>
          <p:cNvPicPr/>
          <p:nvPr/>
        </p:nvPicPr>
        <p:blipFill>
          <a:blip r:embed="rId7"/>
          <a:stretch/>
        </p:blipFill>
        <p:spPr>
          <a:xfrm>
            <a:off x="3346560" y="2511360"/>
            <a:ext cx="2670120" cy="22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receiver.jpg"/>
          <p:cNvPicPr/>
          <p:nvPr/>
        </p:nvPicPr>
        <p:blipFill>
          <a:blip r:embed="rId8"/>
          <a:stretch/>
        </p:blipFill>
        <p:spPr>
          <a:xfrm>
            <a:off x="4492800" y="225360"/>
            <a:ext cx="382248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aramond"/>
              </a:rPr>
              <a:t>Types of Friction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) Kinetic Friction 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Exists as an object slides across a surf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ka – “sliding friction” (kinetic = mov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) Static Friction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 force present b/w two surfaces even when objects are not sli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Garamond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Coefficient of Friction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mount of “grip” of a surf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value ranging from 0-1, rating 2 surfa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higher the value (closer to 1) the greater the gr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ymbol: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= coefficient of kinetic fri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= coefficient of static fri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Berlin Sans FB Demi"/>
              </a:rPr>
              <a:t>Table of Coefficients of Friction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23" name="Content Placeholder 3" descr="coeff table 2.jpg"/>
          <p:cNvPicPr/>
          <p:nvPr/>
        </p:nvPicPr>
        <p:blipFill>
          <a:blip r:embed="rId1"/>
          <a:stretch/>
        </p:blipFill>
        <p:spPr>
          <a:xfrm>
            <a:off x="762120" y="1828800"/>
            <a:ext cx="7453080" cy="50292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4423320" y="129528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Berlin Sans FB Demi"/>
              </a:rPr>
              <a:t>St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393960" y="137160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erlin Sans FB Demi"/>
              </a:rPr>
              <a:t>Kinet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Relationship to FBD’s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4267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Garamond"/>
              </a:rPr>
              <a:t>f</a:t>
            </a: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 = 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Garamond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57200" y="289548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iction   Fo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819520" y="4648320"/>
            <a:ext cx="259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efficient of Friction (This is either static or kinet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867280" y="220968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rmal Force (Force acting _|_ to the surfa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7"/>
          <p:cNvSpPr/>
          <p:nvPr/>
        </p:nvSpPr>
        <p:spPr>
          <a:xfrm flipV="1">
            <a:off x="1828800" y="281952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8"/>
          <p:cNvSpPr/>
          <p:nvPr/>
        </p:nvSpPr>
        <p:spPr>
          <a:xfrm flipV="1">
            <a:off x="3962520" y="2895480"/>
            <a:ext cx="15228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5105160" y="2362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35" name="Content Placeholder 3" descr="static vs kinetic fric graph.jpg"/>
          <p:cNvPicPr/>
          <p:nvPr/>
        </p:nvPicPr>
        <p:blipFill>
          <a:blip r:embed="rId1"/>
          <a:stretch/>
        </p:blipFill>
        <p:spPr>
          <a:xfrm>
            <a:off x="609480" y="762120"/>
            <a:ext cx="6742080" cy="59436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4"/>
          <p:cNvSpPr/>
          <p:nvPr/>
        </p:nvSpPr>
        <p:spPr>
          <a:xfrm>
            <a:off x="4267080" y="3886200"/>
            <a:ext cx="2590920" cy="1828800"/>
          </a:xfrm>
          <a:prstGeom prst="wedgeRoundRectCallout">
            <a:avLst>
              <a:gd name="adj1" fmla="val -117402"/>
              <a:gd name="adj2" fmla="val -20027"/>
              <a:gd name="adj3" fmla="val 16667"/>
            </a:avLst>
          </a:prstGeom>
          <a:solidFill>
            <a:srgbClr val="2e2e4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tatic Friction increases steadily as force is applied until the objects begins mov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ounded Rectangular Callout 5"/>
          <p:cNvSpPr/>
          <p:nvPr/>
        </p:nvSpPr>
        <p:spPr>
          <a:xfrm>
            <a:off x="6400800" y="838080"/>
            <a:ext cx="2438280" cy="1752840"/>
          </a:xfrm>
          <a:prstGeom prst="wedgeRoundRectCallout">
            <a:avLst>
              <a:gd name="adj1" fmla="val -122759"/>
              <a:gd name="adj2" fmla="val 102310"/>
              <a:gd name="adj3" fmla="val 16667"/>
            </a:avLst>
          </a:prstGeom>
          <a:solidFill>
            <a:srgbClr val="ae0d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is represents the kinetic friction once the object is moving at a constant ra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4:52:46Z</dcterms:created>
  <dc:creator>marti andreski</dc:creator>
  <dc:description/>
  <dc:language>en-US</dc:language>
  <cp:lastModifiedBy>jluckey</cp:lastModifiedBy>
  <dcterms:modified xsi:type="dcterms:W3CDTF">2012-01-04T15:24:43Z</dcterms:modified>
  <cp:revision>66</cp:revision>
  <dc:subject/>
  <dc:title>Why Study Physics?</dc:title>
</cp:coreProperties>
</file>